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7A5-FE3F-407E-B2BB-EDE352EC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F2E-284A-4AFD-B526-B23A79D4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2C5-37BB-4F8D-98E6-8D9C7EA2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CCB-14C8-4BA0-9116-AC380D68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8644-B11E-4831-B9AD-7484EE03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022E-B1C4-4990-ACAF-7FCF9FA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C715-7DB1-43F5-AB26-ED4FB5D0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1BDE-4F1C-4EC8-9AD0-3FCF616D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2CE7-CE3C-4BA8-8222-98CB25BD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D430-0F50-4F2B-9F0A-A71082E5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D4D0-7803-41C5-8EB1-8C02DB0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C00-7FAF-4885-A9D3-76D2243D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7C86-89AE-4B76-86F1-CFBD9D2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208E-3A55-466C-A27A-5D7A90CE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C56A-76F5-4133-87B4-B5044E00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2871-14E6-4700-82F9-5BF4B6F2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C04D-8E45-45E0-982B-DBF847E5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CF3-74DE-4A6F-B4DA-84C1E1F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3A8-FB74-49F1-9676-CD7B46D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A38-40B1-4627-8A13-567FC820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EAF-E103-4EC9-8FD1-9D5A55FC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566-0A8E-4681-9317-6A94756F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486-E979-441C-99CC-22B5F9D2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A3D-2D34-4314-9A2C-8CD2F81B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2AFA-B94D-4E6A-903E-BA6C39218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C462-2FFE-4890-A19E-A3B6DAAD9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ir, We Would See Jesus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(Life of Christ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0, Less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93-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8:21 – 10: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ose of Jesus Min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sations Jesus had with the Jews at the Feast of Taberna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sion He Encounters at Jerusalem – John 7:11-5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 people were very favorable toward H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arisees hated H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esus Clai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e Light of the World – John 8:12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at the Pharisees will be unable to go where He was going (to heaven) -8: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were so hardened in sin that they would do nothing but die in that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Jesus and the Pharisees come from very different places – 8:23-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e Messiah sent from God – 8:25-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He will be crucified – 8:28-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Issue of Freedom and Fathe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enslaves and blinds, preventing people from going to heaven with Je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ing in Jesus’ words could free people from sin and blindness – 8:31-32,34-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truth could fre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an was their father, passing on his lies to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illingly swallowed the lies, thus showing who they were most kin to – 8:37-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Confli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wish leaders accuse Jesus of being demon-possessed – John 8:48,5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claimed to honor His Father – 49-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claimed that his teaching will give eternal life – 5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claimed to be before Abraham was -  53-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ews take up stones to stone Jesus - 5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Jesus Heals a Man Born Blind –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John 9:1-41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estion of the reason for the man’s blindness – 1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ecause of 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how the power of God in Je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iracle – 6-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rvel and speculation of others – 8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rogation of the Pharisees – 13-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ustration of who was really blind – 24-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Jesus Is the Good Shepherd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John 10:1-21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ue and False Ways of Entering the Sheepfold – 1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istics of a Good Shepherd -7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especially the sacrificial love of a good shepherd -11,15,17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istics of Thieves and Robbers – 8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istics of a Hired Hand – 12-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views and conclusions – 19-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9:48:12Z</dcterms:created>
  <dc:creator>Terry W. Benton</dc:creator>
  <dc:description/>
  <dc:language>en-US</dc:language>
  <cp:lastModifiedBy>Frank D Vines</cp:lastModifiedBy>
  <dcterms:modified xsi:type="dcterms:W3CDTF">2006-07-05T21:42:26Z</dcterms:modified>
  <cp:revision>4</cp:revision>
  <dc:subject/>
  <dc:title>Sir, We Would See Jesus (Life of Christ)</dc:title>
</cp:coreProperties>
</file>